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png" ContentType="image/png"/>
  <Override PartName="/ppt/media/image5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9BA88-4675-41D2-AD5C-AEF0B51130DB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13E71-7CF4-4EF1-AEE6-AD32B02FC728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E4BC9-5869-4642-8552-B6B2A626E473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69258-11D7-4A6D-A5C0-EFD8D7D4CCB6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14C3E-585A-4FB3-9023-124F221B7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EE99E-48F6-4EAE-8D00-18B07E153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7215D-133D-46D6-B9E0-A33218218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E8935-D108-40B2-90CE-CB0777893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CB0A3-6A39-44B6-ACE9-9D725C4B7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E6B08-63E5-4912-8082-907B69C0C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D8900-271A-49E9-BC5D-7D6503403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FF659-D5C2-4FF8-8E9D-AD7C9CBD5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A20CD-07DF-42A5-95A7-320FFA9DE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29D6C-0F6D-474F-81A8-9CA1BD9CD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5178B-DE11-4E75-A724-2C2EEE0AF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261F2-E6F0-483E-9EF9-EE9F69663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34FDF-A37D-421E-A931-D273800B453D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5.6 Impact of the Aging Boom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87854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0" y="1341360"/>
            <a:ext cx="9242280" cy="55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he Boomers as Seni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Many boomers will also take up “second careers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3" descr=""/>
          <p:cNvPicPr/>
          <p:nvPr/>
        </p:nvPicPr>
        <p:blipFill>
          <a:blip r:embed="rId1"/>
          <a:stretch/>
        </p:blipFill>
        <p:spPr>
          <a:xfrm>
            <a:off x="0" y="2781360"/>
            <a:ext cx="9144000" cy="408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he Boomers as Seni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hey will also contribute to the economy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2" descr=""/>
          <p:cNvPicPr/>
          <p:nvPr/>
        </p:nvPicPr>
        <p:blipFill>
          <a:blip r:embed="rId1"/>
          <a:stretch/>
        </p:blipFill>
        <p:spPr>
          <a:xfrm>
            <a:off x="0" y="2708280"/>
            <a:ext cx="9144000" cy="4149720"/>
          </a:xfrm>
          <a:prstGeom prst="rect">
            <a:avLst/>
          </a:prstGeom>
          <a:ln w="0">
            <a:noFill/>
          </a:ln>
        </p:spPr>
      </p:pic>
      <p:pic>
        <p:nvPicPr>
          <p:cNvPr id="82" name="Rectangle 3" descr=""/>
          <p:cNvPicPr/>
          <p:nvPr/>
        </p:nvPicPr>
        <p:blipFill>
          <a:blip r:embed="rId2"/>
          <a:stretch/>
        </p:blipFill>
        <p:spPr>
          <a:xfrm>
            <a:off x="4273560" y="5767560"/>
            <a:ext cx="5181480" cy="145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he Boomers as Seni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" descr=""/>
          <p:cNvPicPr/>
          <p:nvPr/>
        </p:nvPicPr>
        <p:blipFill>
          <a:blip r:embed="rId2"/>
          <a:stretch/>
        </p:blipFill>
        <p:spPr>
          <a:xfrm>
            <a:off x="0" y="1341360"/>
            <a:ext cx="9144000" cy="55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Assign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Competing Perspectives pg 164-165 #1,2,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Pause and reflect page 168 #1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Dependency Lo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oday, many baby boomers are preparing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2"/>
          <a:stretch/>
        </p:blipFill>
        <p:spPr>
          <a:xfrm>
            <a:off x="0" y="2708280"/>
            <a:ext cx="9036000" cy="41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Dependency Lo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he Echo kids will fill their place in the workfo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By the year 2020 most boomers will be retired or close to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Some people wonder if we will be able to support the large mass of aging boomers who will increasingly rely upon 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Dependency Lo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Dependency Load 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is the measure of the proportion of the national population that is dependent and not actively employ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High dependency loads make it very difficult for the working population to meet the needs of children and seni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Dependency Lo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hen the proportion of income earners in a population is low, governments must either levy high taxes or burrow heavily to provide essenti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3887640" y="3544920"/>
            <a:ext cx="5256360" cy="32846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3" descr=""/>
          <p:cNvPicPr/>
          <p:nvPr/>
        </p:nvPicPr>
        <p:blipFill>
          <a:blip r:embed="rId2"/>
          <a:stretch/>
        </p:blipFill>
        <p:spPr>
          <a:xfrm>
            <a:off x="0" y="3543480"/>
            <a:ext cx="4381560" cy="3286080"/>
          </a:xfrm>
          <a:prstGeom prst="rect">
            <a:avLst/>
          </a:prstGeom>
          <a:ln w="0">
            <a:noFill/>
          </a:ln>
        </p:spPr>
      </p:pic>
      <p:pic>
        <p:nvPicPr>
          <p:cNvPr id="62" name="Rectangle 3" descr=""/>
          <p:cNvPicPr/>
          <p:nvPr/>
        </p:nvPicPr>
        <p:blipFill>
          <a:blip r:embed="rId3"/>
          <a:stretch/>
        </p:blipFill>
        <p:spPr>
          <a:xfrm>
            <a:off x="3571920" y="5724360"/>
            <a:ext cx="5950080" cy="153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Dependency Lo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" descr=""/>
          <p:cNvPicPr/>
          <p:nvPr/>
        </p:nvPicPr>
        <p:blipFill>
          <a:blip r:embed="rId2"/>
          <a:stretch/>
        </p:blipFill>
        <p:spPr>
          <a:xfrm>
            <a:off x="0" y="1341360"/>
            <a:ext cx="9144000" cy="5516640"/>
          </a:xfrm>
          <a:prstGeom prst="rect">
            <a:avLst/>
          </a:prstGeom>
          <a:ln w="0">
            <a:noFill/>
          </a:ln>
        </p:spPr>
      </p:pic>
      <p:pic>
        <p:nvPicPr>
          <p:cNvPr id="66" name="Rectangle 3" descr=""/>
          <p:cNvPicPr/>
          <p:nvPr/>
        </p:nvPicPr>
        <p:blipFill>
          <a:blip r:embed="rId3"/>
          <a:stretch/>
        </p:blipFill>
        <p:spPr>
          <a:xfrm>
            <a:off x="-334800" y="5724360"/>
            <a:ext cx="7821360" cy="153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Dependency Lo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" descr=""/>
          <p:cNvPicPr/>
          <p:nvPr/>
        </p:nvPicPr>
        <p:blipFill>
          <a:blip r:embed="rId2"/>
          <a:stretch/>
        </p:blipFill>
        <p:spPr>
          <a:xfrm>
            <a:off x="0" y="1341360"/>
            <a:ext cx="9144000" cy="5516640"/>
          </a:xfrm>
          <a:prstGeom prst="rect">
            <a:avLst/>
          </a:prstGeom>
          <a:ln w="0">
            <a:noFill/>
          </a:ln>
        </p:spPr>
      </p:pic>
      <p:pic>
        <p:nvPicPr>
          <p:cNvPr id="70" name="Rectangle 3" descr=""/>
          <p:cNvPicPr/>
          <p:nvPr/>
        </p:nvPicPr>
        <p:blipFill>
          <a:blip r:embed="rId3"/>
          <a:stretch/>
        </p:blipFill>
        <p:spPr>
          <a:xfrm>
            <a:off x="-347760" y="5767560"/>
            <a:ext cx="6450120" cy="15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he boomers as Seni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Many boomers are ready for their retir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1/3 of taxpayers also contribute to RRSP’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Government pension funds will not be able to support a generation expected to live 15 to 25 yrs after they ret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he Boomers as Seni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wo other factors suggest that the impact of the boomers need not be nega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0" y="2637000"/>
            <a:ext cx="9036000" cy="42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Jason</cp:lastModifiedBy>
  <dcterms:modified xsi:type="dcterms:W3CDTF">2011-01-02T16:27:41Z</dcterms:modified>
  <cp:revision>94</cp:revision>
  <dc:subject/>
  <dc:title>TITLE</dc:title>
</cp:coreProperties>
</file>